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52A-04DF-4B6D-8726-10323B89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9E6-EA10-446A-905C-425064BE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C3B-12C4-4A75-ABFA-6C32F305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3F2-3ACE-4A07-88B0-1E917739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5C6-7FB3-4FB8-AF3D-EB197604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5BE-ED9A-42B6-B626-5EB3990E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905-F94A-4D3C-AD5A-5E31F061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287-C509-462B-A237-488699D9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A9D-EAAA-4750-BA7F-65386973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488-64EC-4C7E-BAA8-569C0C42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9E1-9B6B-44C4-BF25-B493A360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0F2-DF95-46E9-BF14-4C301095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67A4-FDFA-434E-94AB-429E1D02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logs.edweek.org/edweek/curriculum/upload/2008/08/a_few_good_test_experts/446px-uncle-sam-pointing-finger-1.jpg&amp;imgrefurl=http://blogs.edweek.org/edweek/curriculum/2008/08/&amp;usg=__UdKIcP1YUSceije5BYR1icS8sgY=&amp;h=599&amp;w=446&amp;sz=60&amp;hl=en&amp;start=25&amp;zoom=1&amp;um=1&amp;itbs=1&amp;tbnid=0rXNspVCkS0aaM:&amp;tbnh=135&amp;tbnw=101&amp;prev=/images%3Fq%3Dpointing%2Bfinger%26start%3D20%26um%3D1%26hl%3Den%26safe%3Dactive%26sa%3DN%26rls%3Dcom.microsoft:en-us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farm3.static.flickr.com/2140/2458474034_44de406b43_z.jpg&amp;imgrefurl=http://www.flickr.com/photos/iandeth/2458474034/&amp;usg=__LX52Ub0tmoFS9pRDFZJUqTb6QK4=&amp;h=427&amp;w=640&amp;sz=40&amp;hl=en&amp;start=56&amp;zoom=1&amp;itbs=1&amp;tbnid=UJN0XF64cTYKQM:&amp;tbnh=91&amp;tbnw=137&amp;prev=/images%3Fq%3Dblow%2Bpops%2Bstrawberries%26start%3D40%26hl%3Den%26safe%3Dactive%26sa%3DN%26gbv%3D2%26ndsp%3D20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imgres?imgurl=http://www.sugarstand.com/images/sc/sc0007.jpg&amp;imgrefurl=http://www.sugarstand.com/sc/sc0007-charms-blow-pop-assorted.htm&amp;usg=__4AN48dQ-w_rqWDNoSQoBrPNp1-4=&amp;h=450&amp;w=600&amp;sz=38&amp;hl=en&amp;start=62&amp;zoom=1&amp;itbs=1&amp;tbnid=NJQF9XZe4lWkaM:&amp;tbnh=101&amp;tbnw=135&amp;prev=/images%3Fq%3Dblow%2Bpops%2Bstrawberries%26start%3D60%26hl%3Den%26safe%3Dactive%26sa%3DN%26gbv%3D2%26ndsp%3D20%26tbs%3Disch: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google.com/imgres?imgurl=http://1.bp.blogspot.com/_cwkM0jdVSWc/SiVgx45-34I/AAAAAAAAAgI/SGpgYyOiulY/s400/blow%2Bpops.jpg&amp;imgrefurl=http://charlestheatreworkersunion.blogspot.com/2009/06/there-will-be-blow-pops.html&amp;usg=__FFiQgiA18CJrMIWM05vJQnE4rHY=&amp;h=300&amp;w=300&amp;sz=46&amp;hl=en&amp;start=3&amp;zoom=1&amp;itbs=1&amp;tbnid=emWZd5_uT6cyWM:&amp;tbnh=116&amp;tbnw=116&amp;prev=/images%3Fq%3Dblow%2Bpops%26hl%3Den%26safe%3Dactive%26gbv%3D2%26tbs%3Disch:1&amp;ei=P_VbTdPVCMaitgfp1rGbCw" TargetMode="External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ommnom.com/ebay/pics/CRW_9052.jpg&amp;imgrefurl=http://cgi.ebay.ie/2-x-American-Charms-SUPER-BLOW-POP-pops-38g-/300460331800&amp;usg=__Bcoch1P7PgmlNX5kvigCSAdimig=&amp;h=377&amp;w=640&amp;sz=95&amp;hl=en&amp;start=15&amp;zoom=1&amp;itbs=1&amp;tbnid=CTN-POQhtsIk7M:&amp;tbnh=81&amp;tbnw=137&amp;prev=/images%3Fq%3Dblow%2Bpops%2Bstrawberries%26hl%3Den%26safe%3Dactive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34.tinypic.com/15p3kg6.jpg&amp;imgrefurl=http://www.atomicmall.com/cat.php%3Fid%3Dhome--garden%26sub%3DS2l0Y2hlbg%3D%3D%26subsub%3DRm9vZCBTdG9yYWdl%26o%3Dsid%26d%3Dasc%26s%3D0%26maxprice%3D%26li%3D&amp;usg=__lRnN1j6-IHloE2E7oWXW4b83nLQ=&amp;h=480&amp;w=640&amp;sz=71&amp;hl=en&amp;start=13&amp;zoom=1&amp;itbs=1&amp;tbnid=LjRpmYleuYd2dM:&amp;tbnh=103&amp;tbnw=137&amp;prev=/images%3Fq%3Dblow%2Bpops%2Bstrawberries%26hl%3Den%26safe%3Dactiv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www.sweetjanes.com/images/8452.jpg&amp;imgrefurl=http://www.sweetjanes.com/index.php%3FcPath%3D120_119&amp;usg=__GEKTi7g1OBwB0CZfk3t1d_OSK6o=&amp;h=390&amp;w=390&amp;sz=43&amp;hl=en&amp;start=25&amp;zoom=1&amp;itbs=1&amp;tbnid=nVQgyp_n84bQ_M:&amp;tbnh=123&amp;tbnw=123&amp;prev=/images%3Fq%3Dblow%2Bpops%26start%3D20%26hl%3Den%26safe%3Dactive%26sa%3DN%26gbv%3D2%26ndsp%3D20%26tbs%3Disch: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google.com/imgres?imgurl=http://d3hqdt8j93rgvn.cloudfront.net/Image/MEDIUM_8a78c6e02140d9310121415c1c171642.jpg&amp;imgrefurl=http://www.zeer.com/Food-Products/Charms-Assorted-Blow-Pop-Minis/000005744&amp;usg=__TsWdhmGcwfjNn9tL-It9Pc6_J3I=&amp;h=180&amp;w=180&amp;sz=10&amp;hl=en&amp;start=27&amp;zoom=1&amp;itbs=1&amp;tbnid=bY8EFMM9f7LUFM:&amp;tbnh=101&amp;tbnw=101&amp;prev=/images%3Fq%3Dblow%2Bpops%26start%3D20%26hl%3Den%26safe%3Dactive%26sa%3DN%26gbv%3D2%26ndsp%3D20%26tbs%3Disch:1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lowmesurfgear.com/yahoo_site_admin/assets/images/BlowPops.199163702.gif&amp;imgrefurl=http://www.blowmesurfgear.com/&amp;usg=__Z_fYGplSnBS8nUEq85cCAVOHNhA=&amp;h=150&amp;w=150&amp;sz=12&amp;hl=en&amp;start=22&amp;zoom=1&amp;itbs=1&amp;tbnid=-J-cu9FAowMXZM:&amp;tbnh=96&amp;tbnw=96&amp;prev=/images%3Fq%3Dblow%2Bpops%26start%3D20%26hl%3Den%26safe%3Dactive%26sa%3DN%26gbv%3D2%26ndsp%3D20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s7.thisnext.com/media/230x230/Charms-Blow-Pops-Assorted_EA5BF2C7.jpg&amp;imgrefurl=http://www.thisnext.com/item/DFC991CE/413C2D23/Charms-Blow-Pops-Assorted&amp;usg=__U5iHOBmJs9dIUeAXFMw0sFLVW5s=&amp;h=230&amp;w=230&amp;sz=14&amp;hl=en&amp;start=21&amp;zoom=1&amp;itbs=1&amp;tbnid=WowC6AJ9xEWfXM:&amp;tbnh=108&amp;tbnw=108&amp;prev=/images%3Fq%3Dblow%2Bpops%26start%3D20%26hl%3Den%26safe%3Dactive%26sa%3DN%26gbv%3D2%26ndsp%3D20%26tbs%3Disch: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farm3.static.flickr.com/2140/2458474034_44de406b43_z.jpg&amp;imgrefurl=http://www.flickr.com/photos/iandeth/2458474034/&amp;usg=__LX52Ub0tmoFS9pRDFZJUqTb6QK4=&amp;h=427&amp;w=640&amp;sz=40&amp;hl=en&amp;start=56&amp;zoom=1&amp;itbs=1&amp;tbnid=UJN0XF64cTYKQM:&amp;tbnh=91&amp;tbnw=137&amp;prev=/images%3Fq%3Dblow%2Bpops%2Bstrawberries%26start%3D4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www.binet.lv/go.pl%3FIMG%3D25712736O91&amp;imgrefurl=http://www.binet.lv/sucker/&amp;usg=__ESV38wO0tngeiV8aMxQL7U8IqJ8=&amp;h=370&amp;w=330&amp;sz=53&amp;hl=en&amp;start=39&amp;zoom=1&amp;itbs=1&amp;tbnid=m2xk5zeT1Ood8M:&amp;tbnh=122&amp;tbnw=109&amp;prev=/images%3Fq%3Dblow%2Bpops%26start%3D20%26hl%3Den%26safe%3Dactive%26sa%3DN%26gbv%3D2%26ndsp%3D20%26tbs%3Disch:1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ecure.4imprint.com/imageserver/productimages/4imprint/Extras/100193/LARGE/100193-1.jpg&amp;imgrefurl=http://www.4imprint.com/product/100193&amp;usg=__f8YwMLBbvxq36IZfqjVAbjo7opQ=&amp;h=420&amp;w=700&amp;sz=49&amp;hl=en&amp;start=8&amp;zoom=1&amp;itbs=1&amp;tbnid=jo-ePo8Y4D5-lM:&amp;tbnh=84&amp;tbnw=140&amp;prev=/images%3Fq%3Dblow%2Bpops%2Bstrawberries%26hl%3Den%26safe%3Dactive%26gbv%3D2%26tbs%3Disch: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sweetjanes.com/images/8452.jpg&amp;imgrefurl=http://www.sweetjanes.com/index.php%3FcPath%3D120_119&amp;usg=__GEKTi7g1OBwB0CZfk3t1d_OSK6o=&amp;h=390&amp;w=390&amp;sz=43&amp;hl=en&amp;start=28&amp;zoom=1&amp;um=1&amp;itbs=1&amp;tbnid=nVQgyp_n84bQ_M:&amp;tbnh=123&amp;tbnw=123&amp;prev=/images%3Fq%3Dblow%2Bpops%26start%3D20%26um%3D1%26hl%3Den%26safe%3Dactive%26sa%3DN%26rls%3Dcom.microsoft:en-us%26ndsp%3D20%26tbs%3Disch: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google.com/imgres?imgurl=http://2.bp.blogspot.com/_VpW8JiTI9u8/SWWpa02b3KI/AAAAAAAADtI/VwxoYiCCHU4/s200/blowpops&amp;imgrefurl=http://smallbitesnutrition.blogspot.com/2009/01/you-ask-i-answer-lollipopscalorie.html&amp;usg=__q97uq3DTGEWwVKzd9YIWVanTnn4=&amp;h=200&amp;w=138&amp;sz=7&amp;hl=en&amp;start=20&amp;zoom=1&amp;itbs=1&amp;tbnid=THj2Tp2zA44lCM:&amp;tbnh=104&amp;tbnw=72&amp;prev=/images%3Fq%3Dblow%2Bpops%26hl%3Den%26safe%3Dactive%26gbv%3D2%26tbs%3Disch:1&amp;ei=P_VbTdPVCMaitgfp1rGbCw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www.google.com/imgres?imgurl=http://www.crossroads-market.com/images/THHFCA956.GIF&amp;imgrefurl=http://www.hometownfavorites.com/Charms-Super-Blow-Pop-103-oz/productinfo/HFCA956/&amp;usg=__60vxd5l6A06tBkgN-2CliSKJdkU=&amp;h=110&amp;w=110&amp;sz=5&amp;hl=en&amp;start=124&amp;zoom=1&amp;itbs=1&amp;tbnid=91lSo_ZedCsmjM:&amp;tbnh=85&amp;tbnw=85&amp;prev=/images%3Fq%3Dblow%2Bpops%26start%3D120%26hl%3Den%26safe%3Dactive%26sa%3DN%26gbv%3D2%26ndsp%3D20%26tbs%3Disch:1&amp;ei=kvVbTcutG4OEtgf1z-2RCw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50000">
              <a:srgbClr val="00ffff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low pops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o you like IT</a:t>
            </a:r>
            <a:br>
              <a:rPr sz="6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handi Belo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905120"/>
            <a:ext cx="1734840" cy="2319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304920"/>
            <a:ext cx="2286000" cy="151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52480" y="4343400"/>
            <a:ext cx="26672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are some of the pictures I did, people I tested, and some blow p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8880" y="1752480"/>
            <a:ext cx="1119240" cy="944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3124080" cy="2435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447920" y="510552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n’t let the blind fold go up above there nose and I will make sure they can’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et them keep the blow pop when they got done gu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people didn’t do so well but they were happy that they got a blow pop after they were d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ypo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correct the girls did do better but I really don’t know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did good but they didn’t do as good as the gir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00ff00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w pop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/11/1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blow pops are m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/11/1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w pops can be good for 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/11/1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buy the blow pop’s and have different k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have people taste one kind and see if they can tell what kind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blind fold the people that I’m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be testing people by there 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right down there results and see if they guest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590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e blow pop’s will look really different, if I show them the color they might be able to guess what kind it is.  That is why I will be blind fold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 girls will do better then the boys because the girls might concentrate while the boys might mess around and be goo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9880" y="5183280"/>
            <a:ext cx="3654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eed 3 gir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eed 3 bo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eed Blow p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towel-To clean up a me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- to blind fold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9717800">
            <a:off x="4876560" y="1828440"/>
            <a:ext cx="1400040" cy="117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0"/>
            <a:ext cx="2209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oom-To do the test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-To write down what they answ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989400">
            <a:off x="1828440" y="3580920"/>
            <a:ext cx="5254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50000">
              <a:srgbClr val="ff33cc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take one girl first and test three different blow pop’s on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 will come back get a boy and test the blow pop’s on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make them get blind folded before they get to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they guess one and I will write down how they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also take off the wrapper so they can’t see the kind and I will keep the wrapper until there done, so I know what kind of flavor it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90920" y="1523880"/>
            <a:ext cx="4876560" cy="3353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irl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drah      Yes       No        Y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             No       No         Y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yssa      Yes       Yes       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114800" y="15238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867280" y="15238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8954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8862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1981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2286000" cy="1517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0"/>
            <a:ext cx="1676520" cy="1295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352680" y="1523880"/>
            <a:ext cx="3552840" cy="219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Any kind of lollipop will do as long as they </a:t>
            </a:r>
            <a:endParaRPr b="0" lang="en-US" sz="12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14800" y="1752480"/>
            <a:ext cx="1676520" cy="219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guess the right one </a:t>
            </a:r>
            <a:endParaRPr b="0" lang="en-US" sz="12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fe2a2a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38280" y="1600200"/>
            <a:ext cx="4876920" cy="358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3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ys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         Yes           Yes           No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             Yes           No            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             No            No             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20574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30481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114800" y="16002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867280" y="16002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4114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51814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62320" cy="1417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00400" y="1600200"/>
            <a:ext cx="3552840" cy="219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Any kind of lollipop will do as long as they </a:t>
            </a:r>
            <a:endParaRPr b="0" lang="en-US" sz="12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14800" y="1828800"/>
            <a:ext cx="1676520" cy="219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 Black"/>
              </a:rPr>
              <a:t>guess the right one </a:t>
            </a:r>
            <a:endParaRPr b="0" lang="en-US" sz="1200" spc="1" strike="noStrike">
              <a:ln w="1908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1169800">
            <a:off x="7238880" y="1495080"/>
            <a:ext cx="16765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2362320"/>
            <a:ext cx="3581280" cy="219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276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05720" y="228600"/>
            <a:ext cx="151272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5334120"/>
            <a:ext cx="19051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6:23:00Z</dcterms:created>
  <dc:creator>USD376</dc:creator>
  <dc:description/>
  <dc:language>en-US</dc:language>
  <cp:lastModifiedBy>USD376</cp:lastModifiedBy>
  <dcterms:modified xsi:type="dcterms:W3CDTF">2011-02-16T20:11:43Z</dcterms:modified>
  <cp:revision>8</cp:revision>
  <dc:subject/>
  <dc:title>Rock Candy  Do you like IT</dc:title>
</cp:coreProperties>
</file>